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amera.wav" ContentType="audio/x-wav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5A92-707B-4E42-938D-D069197C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021-B785-4244-A51C-495B9CDE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B0B-FDBC-4FE4-AA01-A5F0F848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6620-D5B0-4962-924C-AA47C9A6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8D22-0C92-4BDA-B855-6256721C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BCF0-4DA0-465D-8E84-8B869D7C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33F6-A825-4DC8-89E9-1EA6766C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90BB-8904-4302-8471-2AF38FE4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DBD5-0AFE-4AAD-A4FD-6F0D5D28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D8EF-86E7-4CC5-9278-DC3E0701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0816-4BCE-4F53-BA57-38A98B64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404-468C-4695-9A1D-7AE0026E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4A69-2133-433F-87B1-CC603B1A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646D-9FF2-4C23-95CA-B810FC90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EC33-CA5D-47F9-8973-37203A5F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A842-7491-4D65-91AD-045541FB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C89B-E20A-4AE8-87D9-2144ECC6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D6E34-66B5-4565-829C-078923E3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E078D-43E7-49E2-A337-BDD065CC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3D02D-ED4D-48A9-B1CF-E55C28B5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5D92B-4D0D-434B-ADA3-CA9714E1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BECEE-3C6F-43DD-97B5-D16D85EB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E43-55B1-4B6A-8D8E-0287D56C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61FCC-1D9A-43AC-93D6-FFF73170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1B610-795A-473F-AD82-3D23ABA0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74F67-F831-4AEB-9168-69DE9545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1DC04-A5AB-41F3-9204-E271BD5C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7FE91-068D-484C-9A9B-CC1719CE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293C2-B033-4D04-9638-E0268A93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6AB11-1349-497B-B9DF-9DE6E383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7E2FAB-A0FD-465F-8167-D8C0C620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7B606-1C5B-495B-8F93-7006936F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8150C5-5363-4B6F-959E-9E4E3852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7B0-3BD0-44BD-B5FB-E03E6CB5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6F7815-D811-44B5-97B2-2A4A1715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55B62F-4A19-4D45-B5D0-459E2471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143738-F9F5-4F73-9EF6-D7597F66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6A2124-7A43-4610-940F-9E115621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6E911-CB0F-43B0-933C-29296C42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8B7FD6-6337-4439-9FAC-4999977A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52C0D5-9525-4D2E-A394-A87DBF28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E0767A-5ECD-4086-AF83-D17DA1BD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C687C8-B780-4F16-B40E-1C813391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705C-024B-4F02-A092-497B80E7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A9E-79F8-46E6-BEB7-B72D8AFE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218-1028-411B-A28E-423FDA6E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94C-6308-4FF8-9501-CB21D19B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1E37-D738-4416-86B1-B9203E8E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F528-42D9-4278-9C66-B99BA623B6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2E55-3CE2-45B2-B4B2-F78B70058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FED8-7D61-460C-9DC8-A0DAD555C3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5FBF-05F8-4838-ABE2-F684A2C48A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58920" y="476280"/>
            <a:ext cx="576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2920" y="476280"/>
            <a:ext cx="4105440" cy="34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102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عــام أف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وعــــــام أطـــ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1557360"/>
            <a:ext cx="8207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خليليّ كم من ميت قد حضرته             ولـكــنني لم أنتفـــع بحضـــــوري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ليال قد أرتني عجائبــــاً             لهن وأيام خـــــلت وشهـــــــ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سنـــين قد طوتني كثيرة               وكم من أمور قد جرت وأم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لم يزده السن ما عاش عبرة               فذاك الذي لا يســتنير بنـــــــور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765000"/>
            <a:ext cx="8353440" cy="75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عن ابن عمر رضي الله عنه قال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خذ رسول الله صلى الله عليه وسلم بمنكبي فقا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كن في الدنيا كأنك غريب أو عابر سبيل 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وكان ابن عمر يقو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إذا أمسيت فلا تنتظر الصباح وإذا أصبحت فلا تنتظر المساء 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وخذ من صحتك لمرضك ، ومن حياتك لموتك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رواه البخار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07920"/>
            <a:ext cx="88549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ـطعـــت شهـــور العمــر لـهوا وغـفـــــــلة        ولم تحـــــترم فيمــــــا أتيت المحــــــــــرّ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لا رجــب وافــــــــــيت فـيه بـــحـــــــقه        ولا صمت شهر الصـــوم صوما متم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لا في ليــالي عشر ذي الحــــــــجــة الذي       مضى كنت قـواما ولا كنت محــــــــر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هــــل لك أن تمــــــحي الذنـــــــوب بـعـبرة       وتبكـي عـليها حســرة وتنــــــــــدمــــ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تسـتـــــــقبل العــــــــام الجـــــديـد بتوبـــة       لعـلك أن تمحـوا بـها ما تقـــــــــــــــد مــا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"/>
              </a:rPr>
              <a:t>قيل لنوح عليه السلام، وقد لبث مع قومه ألف سنة إلا خمسين عاماً: كيف رأيت هذه الدنيا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فقال: كداخل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من باب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DecoType Naskh"/>
              </a:rPr>
              <a:t> وخارج من آخر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912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12" autoRev="1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404640"/>
            <a:ext cx="8820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الفرح بقطع الأيام والأعوام دون اعتبار وحساب لما كان فيها ويكون بعد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هو من البيع المغبون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فالعاقل من اتعظ بأمسه، واجتهد في يومه، واستعد لغد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2133720"/>
            <a:ext cx="7127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ن تفكر في عواقب الدنيا أخذ الحذر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أيقن بطول الطريق تأهب للسفر،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ا أعجب أمرك يا من يُوقن بأمر ثم ينساه 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يتحقق ضرراً حالاًَّ ثم يغشاه 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تغلبكَ نفسُك على ما تظن ، ولا تغلبها على ماتستيقن !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1125360"/>
            <a:ext cx="47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قال ابن الجوزي رحمه الله تعا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4360" y="981000"/>
            <a:ext cx="7920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اجعل جل اهتمامك بالآخرة يزح الله به باقي الهموم ليصفو القلب لله تعال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إن كان في بحر من الابتلاء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( من جعل الهموم هما واحدا هم المعاد كفاه الله سائر هموم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تشعبت به الهموم من أحوال الدن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لم يبال الله في أي أوديتها هلك 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333360"/>
            <a:ext cx="82072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تجارة الآخرة لا تبور .. والتهافت على الدنيا لا يغير المقد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 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( من كانت الآخرة همه ،جعل الله غناه في قلبه ، وجمع له شمله 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أتته الدنيا وهي راغمة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من كانت الدنيا ه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جعل الله فقره بين عينيه ، وفرق عليه شمل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لم يأته من الدنيا إلا ما قدر ل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964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4560" y="2133720"/>
            <a:ext cx="8569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ما مـــــــــضى كان همساتُ مُشْفِــــق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كلماتُ ناصـــــــــــــــح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إن يكن زل لساني عن صواب فاعذروني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أو يكن واقع سوءاً سامحوني </a:t>
            </a: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 الله الله في المسامح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اعذروني على التقصير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ar-SA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577280" y="171612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066760"/>
            <a:ext cx="799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ونحن في أواخر مراحل هذا العام ولا ندري أندرك عامنا الجديد أم يحول  المنون بيننا وبين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إليك هذه الوقف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أسأل الله تعالى أن تجد لها في قلبك موضعا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692280"/>
            <a:ext cx="46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بسم الله الرحمن الرح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16000" y="1268280"/>
            <a:ext cx="68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يا نفس لله توبي  واستغفري من ذنوبي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قد بدت  شمس عامي  تميل نحو  الغروب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59280" y="3084480"/>
            <a:ext cx="412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95440"/>
            <a:ext cx="792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نسير إلى الآجال في كل لحـظة  *** وأعمارنا تطــوى وهن مــرا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ترحل من الدنيا بزاد من التقى *** فعمـــرك أيـــــــام وهــنّ قــــــلائـ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ما هذه الأيام إلا مــــــراحــل  *** يحث بها حاد إلى الموت قاص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أعجب شيء لو تأملت أنها *** منازل تطـوى والمســـافر قــــاع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6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1125360"/>
            <a:ext cx="6912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Traditional Arabic"/>
              </a:rPr>
              <a:t>قال علي بن أبي طالب رضي الله تعالى عن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(ارتحلت الدنيا مدبرة وارتحلت الآخرة مقبل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لكل واحدة منها بنون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كونوا من أبناء الآخرة، ولا تكونوا من أبناء الدنيا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فإن اليوم عمل ولا حساب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غداً حساب ولا عمل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خرجه البخاري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3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3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3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3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3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3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333360"/>
            <a:ext cx="82072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بن عياض لرجل : كم أتى عليك ؟ قال : ستون سن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فأنت منذ ستين سنة تسير إلى ربك يوشك أن تبلغ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إنا لله و إنا إليه راجعو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: أتعرف تفسيره تقول : إنا لله و إنا إليه راجعون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من علم أنه لله عبد وأنه إليه راجع فليعلم أنه موقوف ، ومن علم أنه موقوف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ليعلم أنه مسئول ، فليعد للسؤال جوابا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فما الحيلة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يسيرة . قال: ما هي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قال : تحسن فيما بقي يغفر لك ما مضى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إنك إن أسأت فيما بقي ، أُخذت بما مضى وما بقي والأعمال بالخواتيم .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2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595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260280"/>
            <a:ext cx="7848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134136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وأنت تسير في هذه الدنيا .. هناك يوم سيتوقف المسير وتحط بك القافلة ولكن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إذا أنت لم ترحلْ بزادٍ من التقى     ولاقيتَ بعد الموتِ من قد تزود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ندمتَ على ألا تكون كمثـــــــلِه      وأنك لم ترصدْ كما كان أرصد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260280"/>
            <a:ext cx="9144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تمر ســاعـات أيـــامي بلا نــــــــدم           ولا بـكاء ولا خـوف ولا حــــــز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ما أحلم الله عني حيث أمـــهـلني          وقد تمـاديت في ذنبـي ويســـــــــــترنـ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نا الذي أغلق الأبواب مجتهــــــدا          على المعاصي وعين الله تنظــــــــــــرني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نوح على نفسي وأنـدبــهـــا          وأقطع الدهــــــر بالتـــسبيح والحـــز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سح دموعا لا انقطـاع لـها         فهل عسـى عـبـــــرة منـي تخـــــلــصـن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11280" y="1413000"/>
            <a:ext cx="7848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إنـا لنفرح بالأيام نقطـعــــــــــــــــها      وكل يوم مضى يدني من الأجـل 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اعمل لنفسك قبل الموت مجتهـداً       فـــإنما الربــح والخسران في العمل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3:59:49Z</dcterms:created>
  <dc:creator>Al-Mshikhi</dc:creator>
  <dc:description/>
  <dc:language>en-US</dc:language>
  <cp:lastModifiedBy>sjuhaifa</cp:lastModifiedBy>
  <dcterms:modified xsi:type="dcterms:W3CDTF">2007-01-22T04:32:59Z</dcterms:modified>
  <cp:revision>61</cp:revision>
  <dc:subject/>
  <dc:title>الشريحة 1</dc:title>
</cp:coreProperties>
</file>